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arrow.wav" ContentType="audio/x-wav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8BB-0DA6-4225-8939-2991B0D4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48E-537D-4A60-B39D-DC87B05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EEE-4FD4-4D05-815C-BE18499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A43-A1F7-4CB2-BC2A-75F147C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203-E88C-49EB-A2B4-F0240B12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FAE-FAC5-4D81-9723-472A858C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5ED-844E-4D8E-8F35-2761B82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1B7-6E2D-4D90-A6BF-528B6183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94F-55A5-4DC2-9997-919D730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65A-B31A-450D-A988-3452DD7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24B-5296-42B9-8B95-7F2B83D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B17-9CF3-41ED-BEA6-145468F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C3DB-EAD4-4823-AFF2-F0400CCC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182400">
            <a:off x="914400" y="1142640"/>
            <a:ext cx="6248520" cy="199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28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>
                    <a:alpha val="69000"/>
                  </a:srgbClr>
                </a:solidFill>
                <a:latin typeface="Comic Sans MS"/>
              </a:rPr>
              <a:t>The Shape</a:t>
            </a:r>
            <a:endParaRPr b="1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>
                  <a:alpha val="69000"/>
                </a:srgbClr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 rot="20457600">
            <a:off x="1676160" y="3428640"/>
            <a:ext cx="529596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Of Me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 rot="20965800">
            <a:off x="380880" y="4114440"/>
            <a:ext cx="381240" cy="114300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352680"/>
            <a:ext cx="609480" cy="52884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279000">
            <a:off x="8001000" y="685800"/>
            <a:ext cx="457200" cy="761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80880"/>
            <a:ext cx="609480" cy="6098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5410080"/>
            <a:ext cx="838080" cy="838440"/>
          </a:xfrm>
          <a:prstGeom prst="ellipse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35000">
            <a:off x="1523880" y="2819520"/>
            <a:ext cx="533520" cy="533160"/>
          </a:xfrm>
          <a:prstGeom prst="rect">
            <a:avLst/>
          </a:prstGeom>
          <a:solidFill>
            <a:srgbClr val="c4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589600">
            <a:off x="5064840" y="1868760"/>
            <a:ext cx="533520" cy="1214640"/>
          </a:xfrm>
          <a:prstGeom prst="cube">
            <a:avLst>
              <a:gd name="adj" fmla="val 25000"/>
            </a:avLst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174000">
            <a:off x="7848360" y="3124080"/>
            <a:ext cx="414360" cy="82872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019920"/>
            <a:ext cx="914400" cy="533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226600">
            <a:off x="4946400" y="5799240"/>
            <a:ext cx="990360" cy="395280"/>
          </a:xfrm>
          <a:prstGeom prst="rect">
            <a:avLst/>
          </a:prstGeom>
          <a:solidFill>
            <a:srgbClr val="fead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solid. I have 5 flat faces and 5 vertices. When you trace my faces on paper, you can make two different sha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3352680"/>
            <a:ext cx="1447560" cy="1447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00400"/>
            <a:ext cx="1752840" cy="1676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3720" y="4952880"/>
            <a:ext cx="52578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838080"/>
            <a:ext cx="69343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Comic Sans MS"/>
              </a:rPr>
              <a:t>The End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bbe0e3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a soli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the only solid shape with no edges, no vertices and no flat f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4648320"/>
            <a:ext cx="525780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solid. My edges are round. If you trace my faces on a paper, you can make 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4648320"/>
            <a:ext cx="525780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895480"/>
            <a:ext cx="1523880" cy="144792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solid. I have 6 flat faces and 8 vertices. When you trace my faces on paper, you can make two different sha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3720" y="4648320"/>
            <a:ext cx="525780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2971800"/>
            <a:ext cx="12193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971800"/>
            <a:ext cx="21337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am a solid. I have 6 flat faces and 8 vertices. When you trace my faces on paper, you can make 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3720" y="4648320"/>
            <a:ext cx="525780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124080"/>
            <a:ext cx="13716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1:45:39Z</dcterms:created>
  <dc:creator>David Ison</dc:creator>
  <dc:description/>
  <dc:language>en-US</dc:language>
  <cp:lastModifiedBy>David Ison</cp:lastModifiedBy>
  <dcterms:modified xsi:type="dcterms:W3CDTF">2006-03-23T02:36:45Z</dcterms:modified>
  <cp:revision>16</cp:revision>
  <dc:subject/>
  <dc:title>Slide 1</dc:title>
</cp:coreProperties>
</file>